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096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63800" cy="434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742920" y="0"/>
            <a:ext cx="2863800" cy="434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3148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249760"/>
            <a:ext cx="2863800" cy="4352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742920" y="8249760"/>
            <a:ext cx="2863800" cy="4352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sr-Latn-C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C713030-2232-461C-898C-FD4573EDA9CB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AB9CD7E1-8DBB-49C6-9EC8-0F0CDA2ABF54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8E4233AD-EE18-4141-B86F-760AA7986EA0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F05DF726-8D61-48B7-8E61-3A5144728436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0381-9996-40EB-AC8B-8EAD7C4B7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B285-AEA4-4EDE-A62E-7AB0E8178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261A-DE4C-4D32-B7BC-AF78FA2CA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CD8F-EEA6-4C69-932F-7ED1000C0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1A5B6-AC1A-490E-9915-A8FD5EDD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DE967-07A0-485E-8C31-9E0D7EBB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E7E4A-E76F-419F-8A73-D9EC5A34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5AF54-F728-42BF-BE11-5667A621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8CBBD-0DBF-4275-A033-5B8F7481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9A31C-A88B-4677-A4DB-2D2526B3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6616D-CAEF-4129-A55E-FAC32F5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CAD2-588E-42F4-8462-9A6FBBCAA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DD7D5-A9E4-47F1-A3D2-6E679182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B4CE7-078E-4982-9E8A-EA62D937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02D6E-A72D-48BE-881F-F3C4041C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F40C7-305D-40C8-9DB4-2545593B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5B27C-0654-47D0-AD7E-0C22545A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0904F-61C4-4D24-AF71-85930B2C1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8DEA-4CF9-412C-B4EA-DA0E26244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AE55-6861-4C17-AAF3-803F6170D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E082-3AC6-4346-A9CA-44A176B57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2DDF-61D6-45D4-9D55-62C54EF59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F36F-1C01-4438-A79E-6190DF8A4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7CA2-E97F-4A54-99D4-E2E8D8C4B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A9DE-A530-4E9D-BE3F-2808FB85E08B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2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1D1D-E729-4EA6-9B30-3F25A542EBA7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8280" y="1412640"/>
            <a:ext cx="8217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Интегрисане академске студије фармације</a:t>
            </a: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ndara"/>
              </a:rPr>
              <a:t>В18 </a:t>
            </a: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ФАРМАКОЛОГИЈА 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2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2500200"/>
            <a:ext cx="860724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ЛАКСАНСИ И АНТИДИЈАРОИЦИ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ФАРМАКОТЕРАПИЈА ИНФЛАМАТОРНИХ БОЛЕСТИ ЦРЕВ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3. недељ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. др Марко Фолић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Антидијароици 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ијареја - учестало избацивање течних столиц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Узрочници: инфективни агенси, токсини, анксиозност, лекови..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Примарни аспекти: надокнада изгубљене воде и електролита оралним путем (ако болесник не повраћа) или интравенским инфузијама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2" marL="1251000" indent="-25092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Орално</a:t>
            </a:r>
            <a:r>
              <a:rPr b="0" lang="sr-Latn-RS" sz="18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раствор натријум хлорида и глукозе, постепено, у малим дозам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нтибиотике треба примењивати само код дијареја проузрокованих инвазивним бактеријама које продиру у цревни зид и крвоток </a:t>
            </a:r>
            <a:r>
              <a:rPr b="0" i="1" lang="sr-RS" sz="2000" spc="-1" strike="noStrike">
                <a:solidFill>
                  <a:srgbClr val="000000"/>
                </a:solidFill>
                <a:latin typeface="Candara"/>
              </a:rPr>
              <a:t>(салмонелозе, шигелозе,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Campylobacter jejuni, Yersinia enterocolitica</a:t>
            </a:r>
            <a:r>
              <a:rPr b="0" i="1" lang="sr-RS" sz="2000" spc="-1" strike="noStrike">
                <a:solidFill>
                  <a:srgbClr val="000000"/>
                </a:solidFill>
                <a:latin typeface="Candara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1557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Дијареје изазване неинфективним узрочником (радијациони ентеритис, малапсорпционе, диспептичне дијареје): опиоиди - лоперамид или дифеноксилат 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(у дигестивном тракту стимулишу µ рецепторе и инхибирају пропулзивни мотилитет)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Дифеноксилат се често комбинује са атропином који антимускаринским дејством додатно смањује пропулзивни мотилитет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ОПРЕЗ: Не примењивати их уколико је у питању инфекција инвазивним бактеријама; 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смањује се одстрањивање проузроковача и олакшава прелазак у зид црева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ежељена дејства: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Лоперамид: бол у трбуху, сувоћа уста, мучнина, опстипација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Дифеноксилат: мучнина, свраб, ошамућеност, утрнулост екстремитета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395280" y="47628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ndara"/>
              </a:rPr>
              <a:t>Антидијароици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моле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и бизмут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Холестирамин, холестипол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Везују жучне соли и бактеријске токсин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Бизмут субсалицилат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Комплексно дејств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Антибактеријски ефекат, инхибира ефекте бактеријских токсина, повећава апсорпцију воде и електролита од стране зида црева, инхибира синтезу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остагландина..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Путничка дијареј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Нежељена дејства: тинитус, црно обојена столиц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Адсорбенс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Метилцелулоз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Candara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карбофил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Глине (каолин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иликати (М</a:t>
            </a:r>
            <a:r>
              <a:rPr b="0" lang="sl-SI" sz="2200" spc="-1" strike="noStrike">
                <a:solidFill>
                  <a:srgbClr val="000000"/>
                </a:solidFill>
                <a:latin typeface="Candar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l-силикат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ектин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ndara"/>
              </a:rPr>
              <a:t>Везују микроорганизме или токисне, формирају са водом получврсти гел, нормализују конзистенцију фецеса, мењају цревну флору...???</a:t>
            </a: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Постантибиотска дијареј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557360"/>
            <a:ext cx="849600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стаје после дуже примене антибиотика широког спектра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, због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наруш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вањ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равнотеж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између бактерија у колону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лажи облици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9640" indent="-31644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рекид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аље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ене антибиотика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обиотик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Тежи облици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стају услед прерастања анаеробне бактерије Clostridium difficile, чији егзотоксини А и Б изазивају некрозу епитела колона и настанак псеудомембранозног колитис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Уколико се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токсини А или Б докажу у столици: метронидазол, </a:t>
            </a:r>
            <a:r>
              <a:rPr b="0" i="1" lang="sr-Latn-RS" sz="2000" spc="-1" strike="noStrike">
                <a:solidFill>
                  <a:srgbClr val="000000"/>
                </a:solidFill>
                <a:latin typeface="Candara"/>
              </a:rPr>
              <a:t>per o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Изостанак излечења за 7 дана: ванкомицин, 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per os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14 дан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Одсуство тарапијског ефекта ванкомицина (у резистентним случајевима): фидаксомицин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не апсорбује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е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и успешно делује на Clostridium difficile)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Улцерозни колитис и Кронова болес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Терапијски аспекти</a:t>
            </a:r>
            <a:endParaRPr b="1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28280"/>
            <a:ext cx="8291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утоимуним инфламаторна оболења зида колона и танког црев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5-аминосалицилна киселина (5-АСА) - спречава синтезу простагландина у зиду црев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78600" indent="-3441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Месалазин (5-аминосалицилна киселина)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78600" indent="-3441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лсалазин - димер сачињен од два молекула 5-АСА-е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78600" indent="-3441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улфасалазин - комбинација 5-АСА-е и сулфапириди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ви препарати се слабо апсорбују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(5-АСА доспева у колон и делује на инфламирани зид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ежељена дејства 5-АСА-е: главобоља, болови у трбуху, ометање апсорпције фолне киселине, дијареја и неплодност код мушкарац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Сулфапиридин из сулфасалазина се апсорбује у значајној мери и може изазавти хемолитичку анемију и кожне промене (Стивен-Џонсонов синдром)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алсалазид - након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per os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ене се не апсорбује, доспева у колон, где се под дејством бактерија разлаже на 5-АСА и инертни                             4-аминобензоил-бета-аланин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ена кортикостероида (системски или у виду клизме): када више не постоји адекватна реакција на 5-АСА-у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Ремисија болести (опрез: могућа озбиљна нежељена дејств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ајбољи ефекат: будесонид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45720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Candara"/>
              </a:rPr>
              <a:t>Улцерозни колитис и Кронова болест</a:t>
            </a: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Candara"/>
              </a:rPr>
              <a:t>Терапијски аспекти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Биолошка терапиј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Код тежих облика Кронове болести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нфликсимаб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тализумаб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алимумаб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ертолизумаб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Опрез: О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асност од настанка озбиљних инфекција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 (имуносупресивни ефекат лека) и повећан ризик од појаве лимфома (инфликсимаб) односно других малигних  болести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Опстипацијa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484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Разноликост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дефиниција...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85800" indent="-35856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зостанак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понтан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толиц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уж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48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72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час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Потенцијални узроц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сихошк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спект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(сузбијање рефлекса дефекације због страха, стида и слично)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еправилна исхрана (недовољно течности, храна са мало остатак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Урођене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течене малформације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обољења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црева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ритабилн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колон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мегаколон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уг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црев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хемороид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тумор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оједин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болест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мултипл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клероз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аркинсонов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болест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епресиј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Медикамент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налгетиц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нтациди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луминијумом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Терапијск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спект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едукација болесника о правилној исхрани и навикама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примена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лаксанса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Класификација лаксанса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аксанси који повећавају волумен цревног садржај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смотски лаксанс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аксанси који делују надражајно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аксанси који омекшавају столиц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ndara"/>
              </a:rPr>
              <a:t>Остали лаксанси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Лаксанси који повећавају волумен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цревног садржаја 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римарна препорука: употреба течности и хране са доста несварљивих остатака (целулоза, пектин и лигнин) која везује воду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722160" indent="-37764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Повећање волумена цревног садржаја растеже зид црева и изазива дефекацију. 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репарати целулозе, пшеничне мекиње..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Регулисање столице: 4-5 дана од почетка примен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Безбедан облик терапије опстипациј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Осмотски лаксанс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е апсорбују се након оралног уношења, повећавају осмоларитет цревног садржаја и изазивају прелазак воде из зида црева у лумен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Повећање количине танко-цревног садржаја...прелазак волуминозног садржаја и растезање зида колона...успостављање рефлекса дефекације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Горка со (МgSО4), Мg цитрат, Мg хидроксид, лактулоза, сорбитол, манитол, слабо ресорптивне органске киселинe (лимунска, винска и јабучна)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ајчешће индикације: припрема црева за контрастне рендгенске студије (иригографију, цекографију), колоноскопију, спречавање апсорпције отрова након тровања..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ису погодни код “обичне” опстипације 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(изазивају нелагодност, грчеве и пражњење готово целог дигестивног тракта)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Лактулоза: терапија и превенција хепатичке коме код болесника са тешком цирозом и крварењима у дигестивном тракту.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Изоосмотски раствори за испирање дебелог црева </a:t>
            </a:r>
            <a:endParaRPr b="1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604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Садрже полиетилен гликол, натријум сулфат, натријум хлорид, натријум бикарбонат и калијум хлорид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ацијент мора да попије 4 литра таквог раствора за 2-4 часа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Не апсорбују се у значајној мер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фикасан начин за припрему дебелог црева за операцију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Лаксанси који делују надражајно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8392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нтрахинони (гликозиди сене, каскаре, алоје) - након оралног уношења и апсорпције активирају неуроне зида колона и тако убрзају пропулзивни мотилитет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5320" indent="-28080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Време почетка дејства: око 8 часова након уношењ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лично делује бисакодил (орална или ректална примен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ndara"/>
              </a:rPr>
              <a:t>Примена фенолфталеина се у данашње време избегава (канцерогеност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Рицинусово уље - у танком цреву, под дејством липазе, ослобађа рицинолску киселину, </a:t>
            </a:r>
            <a:r>
              <a:rPr b="0" i="1" lang="sr-RS" sz="1800" spc="-1" strike="noStrike">
                <a:solidFill>
                  <a:srgbClr val="000000"/>
                </a:solidFill>
                <a:latin typeface="Candara"/>
              </a:rPr>
              <a:t>која делује надражајно на неуроне у зиду танког и дебелог црева</a:t>
            </a: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25320" indent="-28080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Брзо дејство, након 2-3 часа од уношења; због јаких грчева и “чупања” у трбуху слабије се користи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репорука: Надражајне лаксативе треба користити повремено и краткотрајно </a:t>
            </a:r>
            <a:r>
              <a:rPr b="0" i="1" lang="sr-RS" sz="1800" spc="-1" strike="noStrike">
                <a:solidFill>
                  <a:srgbClr val="000000"/>
                </a:solidFill>
                <a:latin typeface="Candara"/>
              </a:rPr>
              <a:t>(код хроничне примене долази до оштећења неурона у зиду црева и погоршања опстипације)</a:t>
            </a: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Лаксанси који омекшавају столицу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лакшавају дефекацију разводњавањем и омекшавањем фецес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арафинскo уљ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Напомена: Хроничну примену треба избегавати јер његове капљице могу продрети у зид црева и блокирати лимфне путеве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Канцерогеност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етерџенти (површински активне материје) диоктил калцијум сулфосукцинат, диоктил калијум сулфосукцинат и докусат диоктил натријум сулфосукцинат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Смањују површински напон воде и омогућавају натапање и размекшавање садржаја колона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Делују након 1-2 дана; препорука - ректалнa примена (орална примена: потенцијално токсични ефекат на јетру)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оједине индикације: болна анална фисура, тромбозиран спољашњи хемороид или перинеални апсце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Остали лаксанс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483920"/>
            <a:ext cx="84452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Глицерол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Надражајни, осмотски, омекшивач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Користи се ректално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огодан за “опоравак”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цревн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функциј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након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ериода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лош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исхран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ипреми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еглед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или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операциј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е/након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орођаја, код медикаментима узрокованих констипација (</a:t>
            </a:r>
            <a:r>
              <a:rPr b="0" i="1" lang="en-US" sz="1800" spc="-1" strike="noStrike">
                <a:solidFill>
                  <a:srgbClr val="000000"/>
                </a:solidFill>
                <a:latin typeface="Candara"/>
              </a:rPr>
              <a:t>наркоаналгетици, антидепресиви, блокатори калцијумових канала, антиконвулзиви...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Нежељена дејства: нелагодност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трбух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гасови,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грчеви, алергијск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реакциј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Жучне сол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Дијареја као нежељено дејство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Клизм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Вода, сапуниц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User</cp:lastModifiedBy>
  <dcterms:modified xsi:type="dcterms:W3CDTF">2017-09-14T21:57:26Z</dcterms:modified>
  <cp:revision>819</cp:revision>
  <dc:subject>Klinicki farmakolog</dc:subject>
  <dc:title>Verzija za sajt fakulteta</dc:title>
</cp:coreProperties>
</file>